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5.wmf" ContentType="image/x-wmf"/>
  <Override PartName="/ppt/media/image28.wmf" ContentType="image/x-wmf"/>
  <Override PartName="/ppt/media/image1.jpeg" ContentType="image/jpeg"/>
  <Override PartName="/ppt/media/image15.wmf" ContentType="image/x-wmf"/>
  <Override PartName="/ppt/media/image27.wmf" ContentType="image/x-wmf"/>
  <Override PartName="/ppt/media/image26.wmf" ContentType="image/x-wmf"/>
  <Override PartName="/ppt/media/image14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184DC-E5FE-4326-9B59-6B19F37D455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AE1A9-48EF-4995-B5FD-16E9F0A6A56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08781-4435-4678-9EF3-88291B57B9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062BD-B1F3-4389-874C-6B49ADE101C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38DFE-0DAD-4AC5-BB46-DD0DA8FF12E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20C84-3057-43C1-832C-231FB6528C9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E837C-8C88-4D4C-99CA-43231324359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81A07-62D5-4CD8-B5D7-41A4D07469D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EAADA-2AD9-4391-AC62-EC0906EC9DF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101C9-E907-4B2F-8D44-42A93B19DA5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76AEC-F06A-44A7-9F9F-4782C9F32B5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D5B6B-985B-4635-A3A4-C54AA4AB54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0" y="0"/>
            <a:ext cx="6922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280" y="3284280"/>
            <a:ext cx="793116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3492360" y="836640"/>
            <a:ext cx="2224080" cy="22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0" y="0"/>
            <a:ext cx="69228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755280" y="3284280"/>
            <a:ext cx="793116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3492360" y="836640"/>
            <a:ext cx="2195640" cy="2232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>
            <a:lum contrast="-6000"/>
          </a:blip>
          <a:stretch/>
        </p:blipFill>
        <p:spPr>
          <a:xfrm>
            <a:off x="0" y="0"/>
            <a:ext cx="69228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5"/>
          <a:stretch/>
        </p:blipFill>
        <p:spPr>
          <a:xfrm>
            <a:off x="3492360" y="836640"/>
            <a:ext cx="2224080" cy="22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0" y="0"/>
            <a:ext cx="69228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755280" y="3284280"/>
            <a:ext cx="793116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3492360" y="836640"/>
            <a:ext cx="2195640" cy="2232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>
            <a:lum contrast="-6000"/>
          </a:blip>
          <a:stretch/>
        </p:blipFill>
        <p:spPr>
          <a:xfrm>
            <a:off x="0" y="0"/>
            <a:ext cx="69228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3492360" y="836640"/>
            <a:ext cx="2224080" cy="22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0" y="609300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1"/>
          </p:nvPr>
        </p:nvSpPr>
        <p:spPr>
          <a:xfrm>
            <a:off x="0" y="6381360"/>
            <a:ext cx="378000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2"/>
          </p:nvPr>
        </p:nvSpPr>
        <p:spPr>
          <a:xfrm>
            <a:off x="3995640" y="6381360"/>
            <a:ext cx="71928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B468B-C9EF-44F1-9820-FFAC3277FFCC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8217000" y="5927760"/>
            <a:ext cx="927000" cy="9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1628640"/>
            <a:ext cx="9144000" cy="32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Turkish Economy 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Banking Se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June 18, </a:t>
            </a:r>
            <a:r>
              <a:rPr b="1" lang="en-NZ" sz="2800" spc="-1" strike="noStrike">
                <a:solidFill>
                  <a:srgbClr val="333399"/>
                </a:solidFill>
                <a:latin typeface="Arial"/>
              </a:rPr>
              <a:t>200</a:t>
            </a: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94AF5-C6C3-4815-BE1F-D489C10A1A1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General Economic Outl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539280" y="1341000"/>
            <a:ext cx="81471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171880" indent="-3430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Rate of growth declines since 200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Rate of inflation stabilized around 10 perc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Public finance discipline achiev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Rate of growth is critically dependent on capital inflow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here’s an ongoing savings defic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here’s a fast increase in foreign debt sto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Rate of unemployment which was around 10% increased with the cris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656D1-F498-4ACF-A34D-7FC55CA0E60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50920" y="2133720"/>
            <a:ext cx="864216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Part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Banking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BC75E-8A2F-4379-8646-3BF82DDBAF8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Number of B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68360" y="1197000"/>
          <a:ext cx="8218440" cy="453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197000"/>
                    <a:ext cx="821844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EEE7B-2267-4480-8493-7ABD8B34D23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Number of Branches and Personnel</a:t>
            </a:r>
            <a:r>
              <a:rPr b="1" lang="en-NZ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468360" y="1628640"/>
          <a:ext cx="4036680" cy="4524840"/>
        </p:xfrm>
        <a:graphic>
          <a:graphicData uri="http://schemas.openxmlformats.org/drawingml/2006/table">
            <a:tbl>
              <a:tblPr/>
              <a:tblGrid>
                <a:gridCol w="4036680"/>
              </a:tblGrid>
              <a:tr h="4524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468360" y="1341360"/>
          <a:ext cx="8218440" cy="4535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341360"/>
                    <a:ext cx="8218440" cy="453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AAE06-B636-41AE-9339-0E2B851F1F7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Total Assets</a:t>
            </a:r>
            <a:r>
              <a:rPr b="1" lang="en-NZ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(USD billion)</a:t>
            </a:r>
            <a:br>
              <a:rPr sz="2800"/>
            </a:b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and</a:t>
            </a:r>
            <a:r>
              <a:rPr b="1" lang="en-NZ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Total Assets/GDP (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250920" y="1413000"/>
          <a:ext cx="8435880" cy="446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413000"/>
                    <a:ext cx="843588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D330D-4D48-4A13-A9E9-290EF6E6EC5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47396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TL/FX Composition of Assets (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468360" y="1052640"/>
          <a:ext cx="8280360" cy="475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052640"/>
                    <a:ext cx="8280360" cy="47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3EB94-F3E8-4312-87F3-E83088C7C90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Loans under follow-up/ </a:t>
            </a:r>
            <a:br>
              <a:rPr sz="3200"/>
            </a:b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Total Loans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tr-TR" sz="2400" spc="-1" strike="noStrike">
                <a:solidFill>
                  <a:srgbClr val="333399"/>
                </a:solidFill>
                <a:latin typeface="Arial"/>
              </a:rPr>
              <a:t>%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468360" y="1341360"/>
          <a:ext cx="8136000" cy="455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341360"/>
                    <a:ext cx="8136000" cy="45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DCAEC-C553-4FFF-AD89-7823A15CB0B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99"/>
                </a:solidFill>
                <a:latin typeface="Arial"/>
              </a:rPr>
              <a:t>Loans/Deposit Ratio</a:t>
            </a:r>
            <a:r>
              <a:rPr b="0" lang="tr-TR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tr-TR" sz="3200" spc="-1" strike="noStrike">
                <a:solidFill>
                  <a:srgbClr val="333399"/>
                </a:solidFill>
                <a:latin typeface="Arial"/>
              </a:rPr>
              <a:t>(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57200" y="1052640"/>
          <a:ext cx="8229600" cy="5010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52640"/>
                    <a:ext cx="8229600" cy="50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C592A-C0B0-4241-9A23-C8CA8032950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pital Ad</a:t>
            </a: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e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qu</a:t>
            </a: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y and Shareholders’ eq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395280" y="1197000"/>
          <a:ext cx="8280360" cy="4821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97000"/>
                    <a:ext cx="8280360" cy="482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6361E-DF96-445E-B2FA-1C1921217D5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General Outlook of Banking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50560" y="980640"/>
            <a:ext cx="87850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Fast increase in number of brances and personn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Fast increase in total assets and loa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Money substitution is around 30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Loans under follow up is at a low level (3%) and 90% of them are provision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The ratio of loans/deposits incre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CAR of the sector is around 17 perc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983AF-BE2B-43F9-BFA0-5A484356D97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1916280"/>
            <a:ext cx="761832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Part I</a:t>
            </a:r>
            <a:br>
              <a:rPr sz="3600"/>
            </a:b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Turkish Econo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5E96E-C31C-4F7A-A72B-677552EB41F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095480" y="2205000"/>
            <a:ext cx="6953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Part 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Global Crisis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Turkish Banking Sector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3FBCA-6F0F-4AB6-B000-D9D19FF9E46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Development of Liabilities </a:t>
            </a:r>
            <a:br>
              <a:rPr sz="2800"/>
            </a:b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(In USD terms, October 2008=1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469800" y="1628640"/>
          <a:ext cx="822636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1628640"/>
                    <a:ext cx="82263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55D3F-32A5-486B-9ACC-ED3DFB6EE0A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Development of Assets </a:t>
            </a:r>
            <a:br>
              <a:rPr sz="2800"/>
            </a:b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(In USD terms, October 2008=1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457200" y="1484280"/>
          <a:ext cx="8229600" cy="432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84280"/>
                    <a:ext cx="822960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13278-AD87-41A4-A4DD-6D5CFA60CA2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Composition of Liabilities </a:t>
            </a:r>
            <a:br>
              <a:rPr sz="2800"/>
            </a:b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(In TL ter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250920" y="1341360"/>
          <a:ext cx="8642160" cy="460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341360"/>
                    <a:ext cx="864216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F7873-6084-4894-BF08-2B8C062657F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Composition of Assets </a:t>
            </a:r>
            <a:br>
              <a:rPr sz="2800"/>
            </a:b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(In TL ter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324000" y="1268280"/>
          <a:ext cx="8243640" cy="485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268280"/>
                    <a:ext cx="8243640" cy="48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5991D-8D46-4F78-B9A0-3BDE99A9170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Deposits (TL/USD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250920" y="1125360"/>
          <a:ext cx="8435880" cy="4697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25360"/>
                    <a:ext cx="8435880" cy="469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6BA11-1311-4026-AEEC-0E84D24019E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Liquid Assets (TL/USD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457200" y="1268280"/>
          <a:ext cx="8229600" cy="4554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68280"/>
                    <a:ext cx="8229600" cy="45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42BFE-AE94-4EB5-83FC-CF83BEE491B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Securities (TL/USD Mill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250920" y="1125360"/>
          <a:ext cx="8642160" cy="4697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25360"/>
                    <a:ext cx="8642160" cy="469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D11E8-D760-4A1B-B405-DB0781D6EF7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Loans (TL/USD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457200" y="1125360"/>
          <a:ext cx="8229600" cy="460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125360"/>
                    <a:ext cx="822960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088DE-6E89-4F1F-A014-91C2E77B78F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Loans under follow-up (TL/USD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457200" y="1052640"/>
          <a:ext cx="8229600" cy="4778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52640"/>
                    <a:ext cx="8229600" cy="477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EC6F8-4E5F-4537-85FF-1CD8B475D49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GDP</a:t>
            </a:r>
            <a:r>
              <a:rPr b="1" lang="en-NZ" sz="36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% change in real terms</a:t>
            </a:r>
            <a:r>
              <a:rPr b="1" lang="en-NZ" sz="36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8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395280" y="1413000"/>
          <a:ext cx="8291520" cy="439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413000"/>
                    <a:ext cx="8291520" cy="43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9FD64-54CE-42DB-8392-BF56230A306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FX Position (USD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457200" y="1268280"/>
          <a:ext cx="8229600" cy="4681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68280"/>
                    <a:ext cx="8229600" cy="46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857A5-2BF4-459B-ABE5-3543795947E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Effects of the Cr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250560" y="69228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Liabilities decreased slightly in real te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Composition of total assets chang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otal loans decreased slightly, while securities increa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Loans under follow-up increased sharp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FX risk, liquidity risk and interest risk are ignorably 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Capital adequacy ratio remained at high lev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he quality of loan stock deteriorates due to decreasing economic acti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6F49F-BB10-4D09-A77A-2936C78AA11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Inflation </a:t>
            </a:r>
            <a:r>
              <a:rPr b="1" lang="en-NZ" sz="36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% change</a:t>
            </a:r>
            <a:r>
              <a:rPr b="1" lang="en-NZ" sz="36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50920" y="1197000"/>
          <a:ext cx="8713800" cy="468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97000"/>
                    <a:ext cx="871380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AF796-571B-4D33-9FDD-D665EFAF265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PSBR/GDP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1990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-200</a:t>
            </a: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324000" y="1197000"/>
          <a:ext cx="8362800" cy="468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97000"/>
                    <a:ext cx="836280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59BA4-4AB9-41A5-BFF0-ABEA5588F67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Net Savings/GDP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%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395280" y="1125360"/>
          <a:ext cx="8291520" cy="468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25360"/>
                    <a:ext cx="829152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5A528-1177-4AEA-BCC5-F2E8F69B12F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Growth and Capital Flows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68360" y="907920"/>
          <a:ext cx="8218440" cy="4826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907920"/>
                    <a:ext cx="8218440" cy="482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B4623-34E2-4EA4-8139-2EC9D250DB2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External Debt Stock (USD billion)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50920" y="981000"/>
          <a:ext cx="8435880" cy="496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981000"/>
                    <a:ext cx="8435880" cy="496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A6F06-0A68-424D-BE4F-73796C56AF4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Unemployment Rate (</a:t>
            </a: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%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395280" y="981000"/>
          <a:ext cx="8291520" cy="4896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981000"/>
                    <a:ext cx="829152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1CE50-E884-4897-B2B2-32DBA1B5623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3T07:33:45Z</dcterms:created>
  <dc:creator> </dc:creator>
  <dc:description/>
  <dc:language>en-US</dc:language>
  <cp:lastModifiedBy>mumcum</cp:lastModifiedBy>
  <dcterms:modified xsi:type="dcterms:W3CDTF">2009-06-16T09:56:14Z</dcterms:modified>
  <cp:revision>125</cp:revision>
  <dc:subject/>
  <dc:title>Slide 1</dc:title>
</cp:coreProperties>
</file>